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BDE2-A956-45CB-8A0C-8661CD7F5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6BCC-BE4A-41FB-BFA5-F9F3018B9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5E71-D6FC-4E79-A71B-DA8DB76FD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E0FE-1D40-4DAF-8D73-B104F302E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BFA0-6B67-4DBF-BA55-B458751A9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AFA6-CF33-46F2-AA4B-473B89498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ACC2-C231-45C3-AE88-EA4F0ED2C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15B67-7F70-49C3-BCD4-F1594DA97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E31A-BA13-4FC3-8F4A-CD9F21FD5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E0A-1DA1-465A-8EA2-A5B2298BE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8C58-A642-4EAE-B43A-B21FB95D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8F9D-BE8B-44C2-877A-D8B434B74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A542-4CBA-4A32-9532-D60A6F7B3E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1/Olympic_Rings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1/Olympic_Rings.svg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763640" y="620640"/>
            <a:ext cx="532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ink Links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2" name="" descr="File:Olympic Rings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421000"/>
            <a:ext cx="7620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85080" cy="72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084720" cy="4875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835280" y="4757760"/>
            <a:ext cx="70563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 hiver quand il neige et le ciel est gris j’aime faire du ski surtout pendant les vacances en févri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 neige c’est super parce que c’est blanc et froi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156360" cy="5046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95280" y="4797360"/>
            <a:ext cx="84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 été quand il y a du soleil et le ciel est bleu j’aime faire de la natation surtout pendant les vacances en ao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û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 soleil c’est super parce que c’est jaune et chau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85080" cy="72039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780000" y="3500280"/>
            <a:ext cx="223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in Sportl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uss ........ s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785080" cy="7203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780000" y="3500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n 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ubbl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, word assoc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jectives – vocabulary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d recognition – sentence bui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ss the b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the bubble map – hands on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nd clou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828360" cy="68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828360" cy="68324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692360" y="393372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uthampt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796000" y="400536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ches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 flipH="1">
            <a:off x="2626560" y="3933720"/>
            <a:ext cx="5651640" cy="2305080"/>
          </a:xfrm>
          <a:prstGeom prst="wedgeRoundRectCallout">
            <a:avLst>
              <a:gd name="adj1" fmla="val -55986"/>
              <a:gd name="adj2" fmla="val 6604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55640" y="260280"/>
            <a:ext cx="5616720" cy="2808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116000" y="765000"/>
            <a:ext cx="511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s gibt einen grossen Dom in Winchester aber keinen Dom in Southampt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987640" y="4221000"/>
            <a:ext cx="468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l y a un grand sta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 Southampton mais pas de stad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à Winche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828360" cy="6832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835280" y="3789360"/>
            <a:ext cx="172872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dge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796000" y="3860640"/>
            <a:ext cx="15843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dge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999400" cy="67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 flipH="1">
            <a:off x="2626560" y="3933720"/>
            <a:ext cx="5651640" cy="2305080"/>
          </a:xfrm>
          <a:prstGeom prst="wedgeRoundRectCallout">
            <a:avLst>
              <a:gd name="adj1" fmla="val -55986"/>
              <a:gd name="adj2" fmla="val 66046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55640" y="260280"/>
            <a:ext cx="5616720" cy="28083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116000" y="765000"/>
            <a:ext cx="5113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Vor 10 Jahren gab es weniger H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äuser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in Hedge End aber heutzutage gibt es zu vie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2000" y="4076640"/>
            <a:ext cx="468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l y a dix ans il y avait moins de circulation mais aujourd’hui il y en a tro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uble Bubbl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ng and contrasting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gative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me dif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earch and feedb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 the bubble map – linking h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of host countries, venu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-541440" y="-316080"/>
            <a:ext cx="10153800" cy="708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-541440" y="-316080"/>
            <a:ext cx="10153800" cy="7085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95280" y="1773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e me 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è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19640" y="1773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e me l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148428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e me brosse les d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530064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e m’hab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588000" y="4941720"/>
            <a:ext cx="201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e 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Je dis 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19640" y="4869000"/>
            <a:ext cx="194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e mange un petit croiss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Flow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700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quencing –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erbial time phr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ipes – instructions – impera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ing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range the cards in the r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lympics – Day in the life of 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4072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ulti-Flow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ing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 and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n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6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677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843280" y="162864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 régime de l’ athl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è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6920" y="306864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 ma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659640" y="3068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e so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3068640"/>
            <a:ext cx="194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mi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677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708360" y="1628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e We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068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24360" y="306864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fr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732720" y="306864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s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999400" cy="6702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40360" y="3213000"/>
            <a:ext cx="194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o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11280" y="400536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4360" y="551664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3677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059280" y="155736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me expres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116000" y="3068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51280" y="30686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306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Tre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9586800" cy="59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tegori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cabulary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ocabulary recor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ime 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ns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1763640" y="620640"/>
            <a:ext cx="532944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hink Links 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File:Olympic Rings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2421000"/>
            <a:ext cx="76201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ircl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ainstorming a new topic – sharing your existing knowled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ecklist for progress – colour 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/F activity – place/drag the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/F activity – vote by moving to the right place - hoo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sion – Ich weiss,dass er ……a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ch bin nicht sicher, ob…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e sais qu’il …… mais je 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is pas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û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 s’il 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-316080"/>
            <a:ext cx="8510400" cy="739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50920" y="-326880"/>
            <a:ext cx="8569080" cy="74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8360" y="-138240"/>
            <a:ext cx="8675640" cy="754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604800"/>
            <a:ext cx="8582040" cy="74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Brace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eaking down compon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ocabulary building – dictionary ski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sing skills – sort cards appropria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first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out missing g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gra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ation g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04T13:29:25Z</dcterms:created>
  <dc:creator>jbiddle</dc:creator>
  <dc:description/>
  <dc:language>en-US</dc:language>
  <cp:lastModifiedBy>jbiddle</cp:lastModifiedBy>
  <dcterms:modified xsi:type="dcterms:W3CDTF">2011-09-21T16:24:00Z</dcterms:modified>
  <cp:revision>20</cp:revision>
  <dc:subject/>
  <dc:title>Slide 1</dc:title>
</cp:coreProperties>
</file>